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B0C28838-2310-4362-90A5-E6CFF2B3764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58B-AEC2-4672-A878-A246C6D8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C7E-2CEB-43BC-950B-63ACAB01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A37-394B-4F27-9285-1404C64C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69B-DA92-4B40-87CF-05F188E8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2F1-D239-4CB7-943C-F7BC1C35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372-76FC-455B-8056-2180371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1BC-D6B9-4702-8AAF-A335DCB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4BA-D056-46A6-8B3C-D1DAE11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B9B-3348-43E3-BD5C-959E742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A81-E381-44EC-BE36-6E9FC1AE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366-74BB-4AE5-8CB5-378C4CF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720-454B-4FA5-98E0-008D3B5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235D-6F9C-4301-A0D9-9B0024E86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.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expenditures will serv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25Z</dcterms:modified>
  <cp:revision>76</cp:revision>
  <dc:subject>Outpost Council </dc:subject>
  <dc:title>North Texas District Royal Rangers</dc:title>
</cp:coreProperties>
</file>