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9E5-5F4D-4598-B28F-1E40C68F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18A-6B19-49FD-BEA2-6438E1F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C0D-18A9-41D3-965E-7AE01087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83E-D400-4753-91FE-8DB5D0E8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9799-14CF-4460-8CE7-389A223E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9D7C-E918-4DB9-AD65-552D37F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9EA7-5D48-4000-80C7-58C7FBC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5BB-570A-4FC1-B0A3-8B4CE29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F232-01F4-490E-824D-B8E27C95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7F0-27E5-491F-9E3D-B01F2EE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EFB4-B1FA-4E2F-87A5-A29A8DE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08A-BB8B-48D5-9DCD-C30142F0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D4DD-C88C-4FF3-ADA7-E671F13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586D-9A88-4E8F-B483-DDA73DF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27DB-F28A-4FF3-94FD-A170E02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8B3-4DEE-4A68-AD6B-FC1F991E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94E0-8DA4-439D-A5E7-312DBD53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4AF-D1D9-42DE-8B94-726ACBAF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612-8BA9-4D9D-B92E-6ACA4ECB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D1F-AE07-441D-B522-5EEBD83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E3B-3C93-4040-B464-63596435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8D3-EAD1-4219-94B0-DE44729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D5E-2ADF-4B66-93EF-CF17B36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6F7-D712-4DBA-B682-8EDB094E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723-A4C3-4C3A-8EFD-FCCF3322487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Arial Black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42E9-3939-40FA-9F15-958E220AE4A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 Commanders 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341440" cy="2477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retary/Treasurer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rds keeping- PCA assign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king notes at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nances raised by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2022480" cy="259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dministrative Assista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slet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ri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sig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in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i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utpost reco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eparing flyers, announc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1898640" cy="1425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anquet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velops menu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termines c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tains the foo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ing arran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vide for kitchen staf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od ser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095880" y="2743200"/>
          <a:ext cx="1621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743200"/>
                    <a:ext cx="1621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Uniform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ut-grown unifo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en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tches replac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iforms could be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d or given to other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1737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ransport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arrang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ransportation &amp; driv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cor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corates for special 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2492640" cy="2170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und raising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coordinat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und raising effor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nacks after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ndy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ristmas card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lenda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r wash, paper coll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tivitie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onsors at special ev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rip to the zo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unk in or lock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Gym nigh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inewood derb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Need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orks one-on-one with boys who have special need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nguage barri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ttention deficit disorder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hysical disabilitie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ny other disabilities that would keep the boy from advancing to the GM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ditional are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raf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v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ecial ceremon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resh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opt-a-Ranger 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Do’s &amp; Don'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’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et a commit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gular meetin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ordinate with comman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cognize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ken of apprec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n’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commanders duties to the P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load committe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vide rigid deta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too many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752840" cy="192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commander is faced with not having enough time to oversee or administer all of the tasks required in the operation of a highly successful outpos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Recogni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gnition encourages others to get involv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laqu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ow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ift 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recognition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 front of the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tor particip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hat is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How do I organized i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assignme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Committe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’s and Don’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any churches have a wealth of resour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nd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gnificant oth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 boy’s potential can be fully developed with the help of the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before starting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276720" cy="1541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9920" y="3352680"/>
            <a:ext cx="274320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ministry affects not only the boy but also his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heir children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hieve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v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recogniz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o be part o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ir children’s lives, i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only they were ask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19160" cy="138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PCA is a group of parents,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uardians, grandparents or other family members who are willing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im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al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love to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 in a limited manne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a resource for the local outp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dentify the areas you need help i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nnounce the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parent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family member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rt meeting on ti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ll planned organized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y within the time allotted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895480" cy="2210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isplay a list of task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head project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ip cha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alk bo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ster bo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and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ther visual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 not assign commanders’ responsibilities to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09680" cy="1814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CA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ordinates the activities of the committe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ducts monthly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or quarterly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be part of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r. Commander provides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formation on scheduled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182556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Vice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ssist the Coordinator in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rying out his/her du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s as support to the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oyal Rangers Ministr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17:59:07Z</dcterms:created>
  <dc:creator>Marvin Lemke</dc:creator>
  <dc:description/>
  <dc:language>en-US</dc:language>
  <cp:lastModifiedBy>Jonathan Trower</cp:lastModifiedBy>
  <cp:lastPrinted>1998-02-18T19:31:02Z</cp:lastPrinted>
  <dcterms:modified xsi:type="dcterms:W3CDTF">1999-07-23T20:05:04Z</dcterms:modified>
  <cp:revision>60</cp:revision>
  <dc:subject/>
  <dc:title>Royal Rangers</dc:title>
</cp:coreProperties>
</file>