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3.png" ContentType="image/png"/>
  <Override PartName="/ppt/media/image22.png" ContentType="image/png"/>
  <Override PartName="/ppt/media/image26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AEA-2588-4B57-8257-D84B8E32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138-4ED0-45C4-9429-7430A83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180-D578-4BC4-AAB3-35719DA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A45-55C8-4F58-A075-6A54C7BF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AE51-5318-49FF-ADF6-40F5190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954-BB92-49D1-A6AC-1CC461B0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BFE-F247-4ABA-B66F-30447A4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700-6C98-46AD-BC2D-003EFE8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8B27-D9F5-4A15-8B0D-E569E1A4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3F90-7D01-4D67-B3EB-90C547B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30EB-EF9A-421C-802B-E27E3DB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514-1183-4CCA-A6D0-1369024D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0263-FAFC-48D8-9125-857AA81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9133-CD0C-4741-9935-1CB7AA0C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8BA9-4D4E-44A1-BDD8-F0D0FA3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AA0B-AC51-4D30-A1A0-9B8CC74D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B385-3C51-4000-981C-84DE5AE8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C4F-0FB2-44DA-979E-88BAF5F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863-40EA-47FA-8D7C-7C63E631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8A5-FB92-4F1C-B61D-B4AD910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F3C-BDE7-414D-9A3B-AF7D394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2DE-1A51-4CC1-8793-5BA1604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173-1589-47CB-93D4-371F57B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C44-8E83-4277-891C-1A30C15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14F-8A5F-4EFF-9187-C592B2A339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C62-0937-42DD-9F49-36D93A1452B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Leadership Training Course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(NIV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3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ll have sinned and fall short of the glory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6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e wages of sin is death, but the gift of God is eternal life in Christ Jesus our Lor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hn 1: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t to all who received him, to those wh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his name,  he gave the right to become children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John 1: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 confess our sins, he is faithful and just and will forgive us our sins and purify us from all unrighteousness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lation 3:2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 am! I stand at the door and knock. If anyone hears my voice and opens the door, I will go in and eat with him, and he with me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t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ably one-on-one, away from the rest of the group and sitting close enough to share your B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boy’s name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ak in a relaxing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 vo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48400" y="3886200"/>
          <a:ext cx="2595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8400" y="3886200"/>
                    <a:ext cx="2595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 question / eliminating oppos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ants to go to heaven when he dies and make sure he understands that just believing in Jesus is not en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’s infallibl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with the boy that the Bible is error-free and thank God for giving us his wo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sinned (Romans 3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717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 is death (first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ing the Giver (second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ing the gift (John 1: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ession of sins (1 John 1:9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ing the door (Revelation 3:2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vitation &amp; sinners pr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ould like to ask Jesus into his heart and pray the sinners prayer with hi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-che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ew with the boy and quiz him on what he has d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ing the 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ain how to pr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Bible rea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witnessing (telling ot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church and Sunday school attend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 gr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time aside for studying and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4952880"/>
            <a:ext cx="104328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ltc" descr=""/>
          <p:cNvPicPr/>
          <p:nvPr/>
        </p:nvPicPr>
        <p:blipFill>
          <a:blip r:embed="rId3"/>
          <a:stretch/>
        </p:blipFill>
        <p:spPr>
          <a:xfrm>
            <a:off x="7391520" y="1981080"/>
            <a:ext cx="116208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4T16:47:35Z</dcterms:modified>
  <cp:revision>14</cp:revision>
  <dc:subject/>
  <dc:title>No Slide Title</dc:title>
</cp:coreProperties>
</file>