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BB6A-80B7-4C94-A1EF-ACE0F50B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BE81-3CE3-4261-8DEC-B58C8605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AA94-954F-4642-8416-FE9ADA4B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8778-5A13-4E04-B86A-4E5A9740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0E5-CBCD-40A7-8EF4-F6DE83C0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F051-D43D-444B-8FAD-93E04B72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99B5-B354-46A1-8952-45CC7F37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4F87-CA23-48AA-BB1E-028380B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0D2A-17C9-43A9-88FA-3E2BA54A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F624-C84F-471D-9B87-6FDF9812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CFF0-AF40-42BE-968D-8210C632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FBB9-FE8F-4B89-9529-DC25F0B3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956D-D697-4994-B7CA-912BE97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578A-B9DD-4316-8598-42911660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091C-98CC-4844-B770-5E2D060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99A8-2F97-416B-8BE8-2D327FC8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B08F-E728-4B65-9658-297147EF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0438-1334-4C56-8107-7773F551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8D92-124D-47D9-BCC7-26ACD712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8F45-75F3-41D8-93ED-1479ECE6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C55C-BD34-4C0F-8151-3198B940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0393-C011-40EE-81CB-C8801BE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E213-7F55-4BD8-B6AB-CFD8D62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5277-ACD5-4F8E-AD30-897B4C8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Training Camp or BS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934320" y="2819520"/>
            <a:ext cx="846000" cy="1703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848720" y="2819520"/>
            <a:ext cx="846000" cy="1703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Jonathan Trower</cp:lastModifiedBy>
  <dcterms:modified xsi:type="dcterms:W3CDTF">1999-07-24T17:00:44Z</dcterms:modified>
  <cp:revision>11</cp:revision>
  <dc:subject/>
  <dc:title>Royal Rangers Leadership Training Course  Section V: Teaching and Communication</dc:title>
</cp:coreProperties>
</file>