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AE7-D6BE-41BD-A460-F8F00946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259-92B1-41A8-B3CB-85489E0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97D-69CD-4692-8EEA-F7A8DBFA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64B-E606-4504-BD64-D677B870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6447-886E-4B8C-AB7F-E1416360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B9A7-9FAE-40E3-9B2E-E4CD521D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A239-9396-4FCA-9485-EEF9369E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BC9-DED4-4916-BA5D-A8843E99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A14E-4B18-4368-AB74-05A8A7F0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9C60-C7F1-44C8-94C4-C43840C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97C8-041D-4D28-A961-9124E04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572-617F-4C87-A14E-F8ED6443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DEE1-6E36-4974-B277-DA80E811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8B44-1751-4477-BF60-851D6518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A1E6-9182-4D2E-B72F-2D46086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F776-5129-49D9-B6D5-DA2AFC46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F5A-923D-4C29-95F7-EA0769B2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40B-97CF-4757-93E3-99AD72FB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C6F-C8BF-4FD0-9E5B-306082AE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340-CE08-4C70-AD3D-8F585F8D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46C-C38E-48FF-9623-9E03347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391-4130-4861-96BF-287114C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342-5656-4C78-BD64-75C3602A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3FF-E631-4D16-BB74-8FD846B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2718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003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003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3948-8CDA-4696-9929-29B8DF988995}" type="slidenum"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869-E52D-4693-A3F8-75A08D64531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URBAN 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COMMANDERS 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onsequences for Breaking Rule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1st 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-   Give a reminder of the rul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- Apply discipline appropriate to the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         infraction, move the talker etc.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- Take a boy to the Sr. Commander,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         parents or guardian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e consistent and realistic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lways pray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with your Range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5131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reating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a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Safe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creening of volunte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upervision of staff -- use the buddy syste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riving children to and from event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vernight activities, field trip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Meeting with boys in your home or thei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Meeting in secluded church rooms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r rooms without window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Camping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892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hildren need to be touched in good way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handshake, shoulder hug, gentle pat on back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003b7"/>
                </a:solidFill>
                <a:uFillTx/>
                <a:latin typeface="Times New Roman"/>
              </a:rPr>
              <a:t>Unacceptable touching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sitting on lap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ack rub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patting the buttock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kissing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681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ouching offens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Fondling - oral, genital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nal stimulation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Non-violent intercours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Incest-rape and assaul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1654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Non-touching offens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Verbal stimulation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bscene phone call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Indecent exposur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Peeping in windows or doo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llowing boy to witness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dult relations  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2967120"/>
            <a:ext cx="265608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ng a Safe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Identification of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aring for abused/neglected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igns of abu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sponding to disclosure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of abu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3b7"/>
                </a:solidFill>
                <a:latin typeface="Times New Roman"/>
              </a:rPr>
              <a:t>report it to your Pastor firs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101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ng a Safe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Go to the back section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of the book, read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nd complete pages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15 and 16.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3014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cognition- in front of pe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rizes - external &amp; internal motiva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sponsibility -age &amp; abiliti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Involvement / Participa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rust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28306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hallenge the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ave faith in kid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ompliments (honest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Unusual happenings - variety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eer pressure (positive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ompetition  (friendly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 secure meeting place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29718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ove - unconditional agape lov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cceptance - unconditional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raise - honest prai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Encouragement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oys desire &amp; need i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ugs - good touch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o not invade boys’ spa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151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ook for creative ways to disciplin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quiet seat, time out, whistle, worship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Motivate boys to want to be in your progra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exciting program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variety of activitie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649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4 D’s that are blind spot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traction - an outside for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interest - something you control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comfort - irritant that distract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turbance - a true annoyan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44197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Discipline includes instruction, correction,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nd encouragement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Your objective </a:t>
            </a:r>
            <a:r>
              <a:rPr b="1" lang="en-US" sz="3200" spc="-1" strike="noStrike" u="sng">
                <a:solidFill>
                  <a:srgbClr val="1003b7"/>
                </a:solidFill>
                <a:uFillTx/>
                <a:latin typeface="Times New Roman"/>
              </a:rPr>
              <a:t>is not to teach a lesson,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ut to teach Royal Rang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t guidelines to help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ys maintain self-contro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036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Discipline for Safe Activiti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ys misbehave when they are: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red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rightened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Need atten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ave trouble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with self-contro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28954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ample Rules for Ranger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isten when the instructor is talking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No chewing gum or candy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Keep your hands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o yourself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28004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22:17:12Z</dcterms:created>
  <dc:creator>Marvin Lemke</dc:creator>
  <dc:description/>
  <dc:language>en-US</dc:language>
  <cp:lastModifiedBy>Jonathan Trower</cp:lastModifiedBy>
  <dcterms:modified xsi:type="dcterms:W3CDTF">1999-07-23T21:12:51Z</dcterms:modified>
  <cp:revision>19</cp:revision>
  <dc:subject/>
  <dc:title>Methods To Motivate Boys</dc:title>
</cp:coreProperties>
</file>