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D219-8277-4BEE-9A2C-004E1500D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943D-37F3-4CB0-9919-4191513DE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2239-4D15-4691-A432-F6EEAF7DE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5121-85F6-4940-97E5-275216623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9E499-9CDA-407A-AE4F-CA91AB909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24046-77A9-4897-9BF3-9BEA70D59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3E867-0D59-45B4-920F-A394B70E4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1B086-2871-48A1-A993-E79AEBB96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0B5C1-FB2C-4E4D-88D5-3F3F9BCD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80117-6A41-4BD7-8811-54863A93B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397AD-D352-4B7D-85C2-DF34EB60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E824-A6A6-4FA4-98C3-5C823AEE8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03110-61FB-452A-8131-C652FDB3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09F95-DDF9-40AB-9085-C3086ECF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708E9-D5BC-49D4-9A3B-A5CBB03C0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E84D9-7D07-42BC-B74B-AEF205864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3A103-964C-430F-A18B-F4886EC64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1262-120D-453C-9615-7DF6BD80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FBDC-FF35-4AB8-B635-37C28F60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076D-323F-47BE-91EE-EA9DF2D74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66C8-0FA9-48B7-A7F7-52793E5BC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E859-8577-42D4-B9A6-6F89D2B7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0104-FC6A-42BD-9C79-AC8627EF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5539-FC19-4778-B4BE-58E7B747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9144000" cy="1905120"/>
            </a:xfrm>
            <a:custGeom>
              <a:avLst/>
              <a:gdLst/>
              <a:ahLst/>
              <a:rect l="l" t="t" r="r" b="b"/>
              <a:pathLst>
                <a:path w="5760" h="1200">
                  <a:moveTo>
                    <a:pt x="0" y="0"/>
                  </a:moveTo>
                  <a:lnTo>
                    <a:pt x="1008" y="1200"/>
                  </a:lnTo>
                  <a:lnTo>
                    <a:pt x="5760" y="336"/>
                  </a:lnTo>
                  <a:lnTo>
                    <a:pt x="57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600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99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99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8858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99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99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99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3DA60-72AD-483C-ABF0-545B5870D7EF}" type="slidenum">
              <a:rPr b="0" lang="en-US" sz="1400" spc="-1" strike="noStrike">
                <a:solidFill>
                  <a:srgbClr val="3399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533520" y="-609480"/>
            <a:ext cx="9144000" cy="6858000"/>
            <a:chOff x="-533520" y="-60948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1066680" y="-609480"/>
              <a:ext cx="7543800" cy="685800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533520" y="-609480"/>
              <a:ext cx="1600200" cy="68580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533520" y="-609480"/>
              <a:ext cx="9144000" cy="3809880"/>
            </a:xfrm>
            <a:custGeom>
              <a:avLst/>
              <a:gdLst/>
              <a:ahLst/>
              <a:rect l="l" t="t" r="r" b="b"/>
              <a:pathLst>
                <a:path w="5760" h="2400">
                  <a:moveTo>
                    <a:pt x="0" y="1200"/>
                  </a:moveTo>
                  <a:lnTo>
                    <a:pt x="1008" y="2400"/>
                  </a:lnTo>
                  <a:lnTo>
                    <a:pt x="5760" y="1536"/>
                  </a:lnTo>
                  <a:lnTo>
                    <a:pt x="5760" y="0"/>
                  </a:lnTo>
                  <a:lnTo>
                    <a:pt x="0" y="0"/>
                  </a:lnTo>
                  <a:lnTo>
                    <a:pt x="0" y="120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676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5601F-7026-40B0-95E9-E304B8F9D055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66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66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URBAN 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COMMANDERS 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TRAINING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GUIDE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191120" y="3276720"/>
            <a:ext cx="2154240" cy="25146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Section 9</a:t>
            </a:r>
            <a:br>
              <a:rPr sz="4400"/>
            </a:b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ounseling Boys</a:t>
            </a:r>
            <a:br>
              <a:rPr sz="4400"/>
            </a:b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If you live in the inner city, you know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oo well the problems the boys face.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Many young people are bound by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life-controlling problems.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You as a leader will be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aced with dealing with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hese problems.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705720" y="3352680"/>
            <a:ext cx="1920600" cy="32004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ounseling Boys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8077320" y="1447920"/>
            <a:ext cx="645840" cy="34210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Useful Terms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74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ahoma"/>
              </a:rPr>
              <a:t>Chemical dependency</a:t>
            </a:r>
            <a:endParaRPr b="0" lang="en-US" sz="3100" spc="-1" strike="noStrike">
              <a:solidFill>
                <a:srgbClr val="000066"/>
              </a:solidFill>
              <a:latin typeface="Tahoma"/>
            </a:endParaRPr>
          </a:p>
          <a:p>
            <a:pPr marL="301680" indent="-301680">
              <a:spcBef>
                <a:spcPts val="774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ahoma"/>
              </a:rPr>
              <a:t>Abuse</a:t>
            </a:r>
            <a:endParaRPr b="0" lang="en-US" sz="3100" spc="-1" strike="noStrike">
              <a:solidFill>
                <a:srgbClr val="000066"/>
              </a:solidFill>
              <a:latin typeface="Tahoma"/>
            </a:endParaRPr>
          </a:p>
          <a:p>
            <a:pPr marL="301680" indent="-301680">
              <a:spcBef>
                <a:spcPts val="774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ahoma"/>
              </a:rPr>
              <a:t>Idolatry</a:t>
            </a:r>
            <a:endParaRPr b="0" lang="en-US" sz="3100" spc="-1" strike="noStrike">
              <a:solidFill>
                <a:srgbClr val="000066"/>
              </a:solidFill>
              <a:latin typeface="Tahoma"/>
            </a:endParaRPr>
          </a:p>
          <a:p>
            <a:pPr marL="301680" indent="-301680">
              <a:spcBef>
                <a:spcPts val="774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ahoma"/>
              </a:rPr>
              <a:t>Life-controlling problem</a:t>
            </a:r>
            <a:endParaRPr b="0" lang="en-US" sz="3100" spc="-1" strike="noStrike">
              <a:solidFill>
                <a:srgbClr val="000066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anything that has control over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your life that’s displeasing to God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2" marL="1005840" indent="-2008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drugs, pornography, work-a-holic, anger,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005840" indent="-2008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gossiping, cursing etc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01680" indent="-301680">
              <a:spcBef>
                <a:spcPts val="75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Tahoma"/>
              </a:rPr>
              <a:t>Home life breeds life-controlling problems</a:t>
            </a:r>
            <a:endParaRPr b="0" lang="en-US" sz="3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248520" y="4592520"/>
            <a:ext cx="2020680" cy="22654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hemical Dependency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People use drugs for two reasons: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They decide to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They cannot decide not to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Home environment effects decision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Accepted by peer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To be cool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hemical Dependency Escape Mechanism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hemicals are dependable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always providing relief from pain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young people depend on them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numbs the pain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People avoid the pain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hrough use of chemical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no need to look for other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ways to solve problem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858000" y="3809880"/>
            <a:ext cx="1295280" cy="19051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The Addiction Process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Experimenta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User learns how to control emotion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elated emotions-decrease pain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Harmful dependency/regular basi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to feel normal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maintain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Denial -- turns into delusion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Delusion -- user thinks there is no problem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705720" y="4267080"/>
            <a:ext cx="2081160" cy="23716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hristian Counseling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Important part of ministry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Not all Christian leaders are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gifted in this area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ounseling isn’t easy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Learn effective counseling skill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Be careful and prayerfu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334120" y="2743200"/>
            <a:ext cx="2743200" cy="22924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Interpersonal </a:t>
            </a:r>
            <a:br>
              <a:rPr sz="4400"/>
            </a:b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Relationships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Personal attribute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Personal attitude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Personal action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atanic involvemen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lf-centered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Nonforgiving 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Insecurity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Prejudice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Unfriendlines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ailure to recognize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difference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334120" y="2743200"/>
            <a:ext cx="2287440" cy="28954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Interpersonal Relationships</a:t>
            </a:r>
            <a:br>
              <a:rPr sz="4400"/>
            </a:b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Faults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343400" y="3962520"/>
            <a:ext cx="2895480" cy="19285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Interpersonal Relationships</a:t>
            </a:r>
            <a:br>
              <a:rPr sz="4400"/>
            </a:b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Problems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onflict pattern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Lack of commitmen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ommunication failure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ocial irritant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Section 8</a:t>
            </a:r>
            <a:br>
              <a:rPr sz="4400"/>
            </a:b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About Gangs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781680" y="2743200"/>
            <a:ext cx="1676520" cy="30481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Interpersonal Relationships</a:t>
            </a:r>
            <a:br>
              <a:rPr sz="4400"/>
            </a:b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ounseling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tarting with the basic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hanging the individua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Modeling good relationship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eaching conflict resolution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clarifying goal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reconciling difference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572000" y="5245200"/>
            <a:ext cx="1828800" cy="16128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Interpersonal Relationships</a:t>
            </a:r>
            <a:br>
              <a:rPr sz="4400"/>
            </a:b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ounseling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Do: be sympathetic, kind, loving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Gal. 5:22, Eph. 4:32, Col. 3:13, 14, 1 Pet. 3:8-4:8, I John 3:11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Do not: be proud or arrogan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Rom. 12:16, 1 Corth. 13:4, 2 Tim. 3:1, 2, 4, Jude 16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324480" y="685800"/>
            <a:ext cx="2487600" cy="229392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Resolving Conflict(s)</a:t>
            </a:r>
            <a:br>
              <a:rPr sz="4400"/>
            </a:b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Respect both partie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Understand both position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Encourage open communication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ocus on things that can be changed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Keep conflict from escalating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ummarize frequently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Additional mediation if necessary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286000" cy="15192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Preventing Poor Interpersonal Relationships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Daily walk with Jesu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Prayer and meditation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Divine living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Removal of bitternes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Understanding conflic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Effective communication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Reduction, avoidance or elimination of conflict-producing environmental stres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029200" y="3200400"/>
            <a:ext cx="3276720" cy="27003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Sex Apart From Marriage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Widely accepted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requently tolerated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Glamorized  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elevised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Advertised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x was created by God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Involves sinful behavior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inful thinking- lus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inful talk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Restricts freedom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486400" y="3733920"/>
            <a:ext cx="1652760" cy="22860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Sex Apart </a:t>
            </a:r>
            <a:br>
              <a:rPr sz="4400"/>
            </a:b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From Marriage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095880" y="3124080"/>
            <a:ext cx="2057400" cy="19814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Sex Apart From Marriage</a:t>
            </a:r>
            <a:br>
              <a:rPr sz="4400"/>
            </a:b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 Causes </a:t>
            </a:r>
            <a:br>
              <a:rPr sz="4400"/>
            </a:b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Environmental stimulation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ocial atmosphere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xual convenience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Liberal value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Inappropriate education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Internal pressure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uriosity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Uncontrolled fantasy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Sex Apart From Marriage</a:t>
            </a:r>
            <a:br>
              <a:rPr sz="4400"/>
            </a:b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ounseling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Look at your own attitude &amp; action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Listen with sensitivity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Examine the boy’s attitude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onsider your counseling goal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Help with practical issue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Help boy find forgivenes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timulate sound attitude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Be alert for the need for referra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943600" y="2590920"/>
            <a:ext cx="2689200" cy="191772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Sex before Marriage </a:t>
            </a:r>
            <a:br>
              <a:rPr sz="4400"/>
            </a:b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Prevention</a:t>
            </a:r>
            <a:br>
              <a:rPr sz="4400"/>
            </a:b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Providing sex education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factual information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Bible based principle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honest teaching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in good tast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Providing realistic alternative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Christian meaningful activitie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172200" y="990720"/>
            <a:ext cx="2971800" cy="25858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Violence and Abuse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Appears to be increasing 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Misconception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Victims ask for it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Victims like to be mistreated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Rape victims could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prevent the attack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562720" y="3733920"/>
            <a:ext cx="2611440" cy="20224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About Gangs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Gang lifestyle, dress, forms of induction, codes vary from city to city and neighborhood to neighborhood. 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ontact your local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authorities for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information about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gangs in your city.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943600" y="2590920"/>
            <a:ext cx="2514600" cy="262728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auses of Violence </a:t>
            </a:r>
            <a:br>
              <a:rPr sz="4400"/>
            </a:b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and Abuse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Environmental stres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Learned abuse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623880" indent="-23976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observe in parent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Personal insecurity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623880" indent="-23976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impulsive behavior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623880" indent="-23976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low self-concept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623880" indent="-23976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sexual inadequacy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623880" indent="-23976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anger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623880" indent="-23976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gain control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952880" y="1752480"/>
            <a:ext cx="3124440" cy="19926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Abuse stages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Impact stage 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shock &amp; disbelief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Denia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Process stage-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experience no longer suppressed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inal stage-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victim no longer controlled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hild Abuse Symptoms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Unduly, fearful of parent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hild poorly groomed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hild undernourished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Unexplained injuries or sicknes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hild is withdrawn or depressed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hild clings to adult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Disinterested - unable to concentrate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Highly demanding, rigid parent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auses Of Depression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Background and family cause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tress and significant losse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Learned helplessnes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Psychological-cognitive cause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in and guil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Anger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477120" y="2819520"/>
            <a:ext cx="1385640" cy="20574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Effects Of Depression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Unhappiness and inefficiency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Physical illnes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Low self-esteem    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Withdrawa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uicide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lf-destructive action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Angry temper outburst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6629400" y="1295280"/>
            <a:ext cx="2057400" cy="182592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Signs Of Depression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alk of suicide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Plan for killing oneself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eeling of hopelessnes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Guilt feelings-worthlessnes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Environmental stres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Excessive concerns about illnes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Dependent &amp; dissatisfied at same time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Knowledge of methods of suicide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ahoma"/>
              </a:rPr>
              <a:t>Signs Of</a:t>
            </a: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800000"/>
                </a:solidFill>
                <a:latin typeface="Tahoma"/>
              </a:rPr>
              <a:t>Depression</a:t>
            </a:r>
            <a:endParaRPr b="0" lang="en-US" sz="36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If you suspect one of your Rangers is contemplating suicide, ensure that the boy’s parent(s) or guardian(s) are notified. 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Notify your pastor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257800" y="3809880"/>
            <a:ext cx="274320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086600" y="609480"/>
            <a:ext cx="1768320" cy="22860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ounseling and Depression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Depressed people are often: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passive, nonverbal, poorly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motivated, with what’s the use attitud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ind the psychological and spiritual causes that produced the symptom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Preventing depression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trust in God, find support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learn to handle anger &amp; guilt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learn coping technique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553080" y="2971800"/>
            <a:ext cx="1824120" cy="266688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Section 9</a:t>
            </a:r>
            <a:br>
              <a:rPr sz="4400"/>
            </a:b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ounseling Boys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2438280" y="2590920"/>
            <a:ext cx="2971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Read and complete </a:t>
            </a: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pages 19-24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504120" y="3048120"/>
            <a:ext cx="1915920" cy="2361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Facts About Gangs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Education not importan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70720" indent="-27072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More boys involved than girl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70720" indent="-27072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Why boys join gang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586800" indent="-22572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neighborhood tradition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586800" indent="-22572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family tradition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586800" indent="-22572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peer pressur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586800" indent="-22572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protection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586800" indent="-22572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defend the neighborhood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586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162920" y="3733920"/>
            <a:ext cx="1485720" cy="18190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Facts About Gangs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Average jump in - age 11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Average gangbanger - age 17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Varied hair &amp; dress style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rom dysfunctional familie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Alcohol &amp; drugs big problem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Drive-by shooting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No respect for other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Prevention is the name of the game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867280" y="3657600"/>
            <a:ext cx="2062440" cy="23623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Facts About Gangs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Learn traditions/history of gangs 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peak to the advocates in the area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Obtain experience- talk to authoritie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Read book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Watch videos 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Become streetwise before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you begin communicating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o gang member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934320" y="1752480"/>
            <a:ext cx="1631880" cy="25909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Induction Process</a:t>
            </a:r>
            <a:br>
              <a:rPr sz="4400"/>
            </a:b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Want-a-be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agger with graffiti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Jump-in (rules &amp; purposes)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age 5-10 some age 11-13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Initiation Step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Drive-by shootings, other crime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Ranking system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claimers, soldiers, gang leader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705720" y="4191120"/>
            <a:ext cx="1144440" cy="22096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Jumping Out of a Gang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Never tell a boy to jump ou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Refer him to authoritie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Jump out needs to be well planned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Lifestyle, hairstyle needs to change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Boy remains in the house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Activities need to change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involved in school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other activitie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791320" y="2475000"/>
            <a:ext cx="2590560" cy="23176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About Gang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1752480" y="1905120"/>
            <a:ext cx="3733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Go to the back </a:t>
            </a: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section of</a:t>
            </a: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the book, and</a:t>
            </a: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complete</a:t>
            </a: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 pages</a:t>
            </a: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 17 and 18.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3T13:08:14Z</dcterms:created>
  <dc:creator>Marvin Lemke</dc:creator>
  <dc:description/>
  <dc:language>en-US</dc:language>
  <cp:lastModifiedBy>Jonathan Trower</cp:lastModifiedBy>
  <cp:lastPrinted>1997-11-10T20:03:36Z</cp:lastPrinted>
  <dcterms:modified xsi:type="dcterms:W3CDTF">1999-07-23T21:30:45Z</dcterms:modified>
  <cp:revision>51</cp:revision>
  <dc:subject/>
  <dc:title>Section 8 </dc:title>
</cp:coreProperties>
</file>