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157-3E20-42A0-81B1-457405BB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674-8928-410C-B077-E0A50755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DE2-1DE5-4F69-8BC1-F826E6C9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9768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6200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33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9768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6200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7FFD-56FC-46DC-A6B9-55DEBE49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7C70-E142-40A5-AD4B-04AC4F16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FAF6-E7C5-4879-8389-ED4EB06B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B444-4B68-45F7-B67D-9F82CF16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0B97-2901-4186-B4E9-BB1CFA99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13D1-60DC-4B36-8939-70FCA371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FDD4-CA56-4396-B4F6-2AC34BA2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A481-D008-4C6F-8AF8-3E689AA1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1A19-9A63-4F8F-AFF4-BBDDA3AD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CE9A-CC8A-4D87-9D2D-E4CC7755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DC77-116E-44B5-9061-99B7DEC4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4784-73B9-452D-BA8E-90329E0F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4615-995C-46FB-B263-F477F46E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9768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6200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133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29768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6200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A27C-141D-44C3-B4B1-34DDA4DA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FB2-AE9A-496C-9CD9-B68C834E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70D-3AD5-455F-9A97-AF58278E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E32-AEFD-4C4A-B747-010EBD6D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001F-35C7-4F16-B436-BE7FE388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15EF-7295-4723-BFEB-C9862DDC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E31-8479-4967-9C9C-DB67F2B2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C809-0981-4606-AB3A-2F695DCD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DEA5-9FA0-48B8-859D-546CE65AB1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B06B-9BD6-4666-8E82-03362E4FF8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660033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660033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660033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660033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URBAN COMMANDERS </a:t>
            </a:r>
            <a:br>
              <a:rPr sz="4000"/>
            </a:b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TRAINING GUIDE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Section 10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Raising Funds 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And The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Adopt-an-Outpost Program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162920" y="2666880"/>
            <a:ext cx="1365120" cy="1752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Goals of adopted outpost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train pastor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train leader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provide curriculum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coordinate with district commander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A key to developing a viable </a:t>
            </a:r>
            <a:br>
              <a:rPr sz="3200"/>
            </a:b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outpost is training leaders </a:t>
            </a:r>
            <a:br>
              <a:rPr sz="3200"/>
            </a:b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and pastors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553080" y="1905120"/>
            <a:ext cx="143676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Benefits: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reaching boys for Christ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reaching families for Christ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establishing Christian boy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strengthening the leaders</a:t>
            </a:r>
            <a:br>
              <a:rPr sz="2800"/>
            </a:b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enabling them to lead boy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72200" y="3200400"/>
            <a:ext cx="2282760" cy="2590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What an adopted church should receive: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LTC training for pastor and 2 leader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Free LTC materia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Chartering for one year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Royal Rangers poster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Outpost record book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Bible studie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Devotional handbook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District 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Approval of District Superintendent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Coordination of District Commander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District Commander approves projects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District PR Coordinator promotes program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District Training Coordinator trains the leaders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Follow the district procedures   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248520" y="3581280"/>
            <a:ext cx="2438280" cy="2286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Read and complete  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Pages 25 &amp; 26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133720" cy="1833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How can Area, Section &amp;</a:t>
            </a:r>
            <a:br>
              <a:rPr sz="3200"/>
            </a:b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District help!!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Urban Pow-Wow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Other Royal Rangers activitie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Visit the urban outpost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Prayer Task Force trip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Teen Challenge program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TE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Complete pages 27-31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open book test.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1T02:59:00Z</dcterms:created>
  <dc:creator>Marvin Lemke</dc:creator>
  <dc:description/>
  <dc:language>en-US</dc:language>
  <cp:lastModifiedBy>Jonathan Trower</cp:lastModifiedBy>
  <dcterms:modified xsi:type="dcterms:W3CDTF">1999-07-23T22:06:21Z</dcterms:modified>
  <cp:revision>14</cp:revision>
  <dc:subject/>
  <dc:title>Section 10</dc:title>
</cp:coreProperties>
</file>